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to lesson 4  patterning and algebr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06C0B-31E9-4811-B802-7E12CAB533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1ADAD-D1F4-4722-908E-D3954269B0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7B2EA9-D975-4F37-8734-F7C460BAB5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F577F2-2936-45AE-85A0-866A9CE344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09C4-518A-4B58-AF73-CCF641A881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72060-E669-44EA-B6BD-F8EBAD897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79EFD-6DBA-45A4-952E-CFE760E1E9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58D01A42-F83F-45A1-9519-5FD6E829D4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7A14BCD-4576-4330-9001-C69CE7683E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82336-E03E-4BCB-8735-BD8DCCAB1E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76B40-30B3-4C36-9557-5308C4027C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AC1EA-0A13-4ADF-BE62-705EF8EF2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85C8-5B0E-42A1-AB20-0EC6BA4615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45F0-99B7-4BFB-9A4D-ABFF7D36D9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pic>
        <p:nvPicPr>
          <p:cNvPr id="49" name="Picture 2" descr="C:\Documents and Settings\d.wines\Desktop\Beach Images\Beach &amp; Water (A - B)\Beach Chair 05.wmf"/>
          <p:cNvPicPr/>
          <p:nvPr/>
        </p:nvPicPr>
        <p:blipFill>
          <a:blip r:embed="rId3"/>
          <a:stretch/>
        </p:blipFill>
        <p:spPr>
          <a:xfrm>
            <a:off x="7315200" y="304920"/>
            <a:ext cx="1582560" cy="1981080"/>
          </a:xfrm>
          <a:prstGeom prst="rect">
            <a:avLst/>
          </a:prstGeom>
          <a:ln w="0">
            <a:noFill/>
          </a:ln>
        </p:spPr>
      </p:pic>
      <p:pic>
        <p:nvPicPr>
          <p:cNvPr id="50" name="Picture 6" descr="C:\Documents and Settings\d.wines\Desktop\Beach Images\Beach &amp; Water (A - B)\Boy on Beach 14.wmf"/>
          <p:cNvPicPr/>
          <p:nvPr/>
        </p:nvPicPr>
        <p:blipFill>
          <a:blip r:embed="rId4"/>
          <a:stretch/>
        </p:blipFill>
        <p:spPr>
          <a:xfrm>
            <a:off x="380880" y="4191120"/>
            <a:ext cx="2044800" cy="1904760"/>
          </a:xfrm>
          <a:prstGeom prst="rect">
            <a:avLst/>
          </a:prstGeom>
          <a:ln w="0">
            <a:noFill/>
          </a:ln>
        </p:spPr>
      </p:pic>
      <p:pic>
        <p:nvPicPr>
          <p:cNvPr id="51" name="Picture 7" descr="C:\Documents and Settings\d.wines\Desktop\Beach Images\Beach &amp; Water (A - B)\Buried in Sand 5.wmf"/>
          <p:cNvPicPr/>
          <p:nvPr/>
        </p:nvPicPr>
        <p:blipFill>
          <a:blip r:embed="rId5"/>
          <a:stretch/>
        </p:blipFill>
        <p:spPr>
          <a:xfrm>
            <a:off x="6324480" y="3505320"/>
            <a:ext cx="2641680" cy="289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9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084C-9800-42B8-8311-1707442C452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1"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137F-4914-4026-81E9-190F350F60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5"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tterning and Algebra</a:t>
            </a:r>
            <a:br>
              <a:rPr sz="4400"/>
            </a:br>
            <a:r>
              <a:rPr b="0" lang="en-US" sz="4400" spc="-1" strike="noStrike">
                <a:solidFill>
                  <a:srgbClr val="2b5ca9"/>
                </a:solidFill>
                <a:latin typeface="Arial"/>
              </a:rPr>
              <a:t>Breakout 4</a:t>
            </a:r>
            <a:endParaRPr b="0" lang="en-US" sz="4400" spc="-1" strike="noStrike">
              <a:solidFill>
                <a:srgbClr val="2b5ca9"/>
              </a:solidFill>
              <a:latin typeface="Arial"/>
            </a:endParaRPr>
          </a:p>
        </p:txBody>
      </p:sp>
      <p:sp>
        <p:nvSpPr>
          <p:cNvPr id="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B76D-DE46-48EF-83A7-C16AED050D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4" name="Picture 2" descr="C:\Documents and Settings\d.wines\Desktop\Beach Images\Beach &amp; Water (A - B)\Beach 1.wmf"/>
          <p:cNvPicPr/>
          <p:nvPr/>
        </p:nvPicPr>
        <p:blipFill>
          <a:blip r:embed="rId1"/>
          <a:stretch/>
        </p:blipFill>
        <p:spPr>
          <a:xfrm>
            <a:off x="2438280" y="990720"/>
            <a:ext cx="4672080" cy="4394160"/>
          </a:xfrm>
          <a:prstGeom prst="rect">
            <a:avLst/>
          </a:prstGeom>
          <a:ln w="0">
            <a:noFill/>
          </a:ln>
        </p:spPr>
      </p:pic>
      <p:pic>
        <p:nvPicPr>
          <p:cNvPr id="55" name="" descr=""/>
          <p:cNvPicPr/>
          <p:nvPr/>
        </p:nvPicPr>
        <p:blipFill>
          <a:blip r:embed="rId2"/>
          <a:stretch/>
        </p:blipFill>
        <p:spPr>
          <a:xfrm>
            <a:off x="457200" y="1599840"/>
            <a:ext cx="8229600" cy="5257800"/>
          </a:xfrm>
          <a:prstGeom prst="rect">
            <a:avLst/>
          </a:prstGeom>
          <a:ln w="0">
            <a:noFill/>
          </a:ln>
        </p:spPr>
      </p:pic>
      <p:pic>
        <p:nvPicPr>
          <p:cNvPr id="56" name="Picture 2" descr="C:\Documents and Settings\d.wines\Desktop\Beach Images\Beach &amp; Water (A - B)\Beach Chair 05.wmf"/>
          <p:cNvPicPr/>
          <p:nvPr/>
        </p:nvPicPr>
        <p:blipFill>
          <a:blip r:embed="rId3"/>
          <a:stretch/>
        </p:blipFill>
        <p:spPr>
          <a:xfrm>
            <a:off x="7620120" y="380880"/>
            <a:ext cx="1157040" cy="144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2915-35C6-423B-9EA3-7FADA7EFB9A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0ED4-89D1-423E-80E5-D4DCBB5563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2" descr="C:\Documents and Settings\d.wines\Desktop\Beach Images\Beach &amp; Water (A - B)\Beach Chair 05.wmf"/>
          <p:cNvPicPr/>
          <p:nvPr/>
        </p:nvPicPr>
        <p:blipFill>
          <a:blip r:embed="rId2"/>
          <a:stretch/>
        </p:blipFill>
        <p:spPr>
          <a:xfrm>
            <a:off x="7620120" y="380880"/>
            <a:ext cx="1157040" cy="1447920"/>
          </a:xfrm>
          <a:prstGeom prst="rect">
            <a:avLst/>
          </a:prstGeom>
          <a:ln w="0">
            <a:noFill/>
          </a:ln>
        </p:spPr>
      </p:pic>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your quot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someone in the room with a different colour paper strip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ve a standing conversation about your two quotes and the implications for students who struggle with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de at the top left of the paper is for the ‘Action’ part of this sess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6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n problem</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ing patter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05FF-4835-4BE4-B627-CF519F009CE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C65D-5E94-46D6-9576-517CFC78C9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A - B)\Beach Chair 05.wmf"/>
          <p:cNvPicPr/>
          <p:nvPr/>
        </p:nvPicPr>
        <p:blipFill>
          <a:blip r:embed="rId1"/>
          <a:stretch/>
        </p:blipFill>
        <p:spPr>
          <a:xfrm>
            <a:off x="7620120" y="457200"/>
            <a:ext cx="1157040" cy="144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131E-9C81-46C7-881B-1878DD9DF4E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uess my Rule! </a:t>
            </a: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only position #2, determine my pattern rul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ome individual think time, share as a table.</a:t>
            </a:r>
            <a:endParaRPr b="0" lang="en-US" sz="28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4FF4-81E9-4BA0-BE3D-8D2B4FFCDAC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8" name="Rectangle 2"/>
          <p:cNvSpPr/>
          <p:nvPr/>
        </p:nvSpPr>
        <p:spPr>
          <a:xfrm>
            <a:off x="3809880" y="15238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2"/>
          <p:cNvSpPr/>
          <p:nvPr/>
        </p:nvSpPr>
        <p:spPr>
          <a:xfrm>
            <a:off x="4114800" y="15238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2"/>
          <p:cNvSpPr/>
          <p:nvPr/>
        </p:nvSpPr>
        <p:spPr>
          <a:xfrm>
            <a:off x="380988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2"/>
          <p:cNvSpPr/>
          <p:nvPr/>
        </p:nvSpPr>
        <p:spPr>
          <a:xfrm>
            <a:off x="411480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2"/>
          <p:cNvSpPr/>
          <p:nvPr/>
        </p:nvSpPr>
        <p:spPr>
          <a:xfrm>
            <a:off x="441972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
          <p:cNvSpPr/>
          <p:nvPr/>
        </p:nvSpPr>
        <p:spPr>
          <a:xfrm>
            <a:off x="350532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
          <p:cNvSpPr/>
          <p:nvPr/>
        </p:nvSpPr>
        <p:spPr>
          <a:xfrm>
            <a:off x="3809880" y="24382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
          <p:cNvSpPr/>
          <p:nvPr/>
        </p:nvSpPr>
        <p:spPr>
          <a:xfrm>
            <a:off x="4114800" y="24382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3"/>
          <p:cNvSpPr/>
          <p:nvPr/>
        </p:nvSpPr>
        <p:spPr>
          <a:xfrm>
            <a:off x="3886200" y="2971800"/>
            <a:ext cx="434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endParaRPr b="0" lang="en-US" sz="3600" spc="-1" strike="noStrike">
              <a:solidFill>
                <a:srgbClr val="000000"/>
              </a:solidFill>
              <a:latin typeface="Arial"/>
            </a:endParaRPr>
          </a:p>
        </p:txBody>
      </p:sp>
      <p:pic>
        <p:nvPicPr>
          <p:cNvPr id="87" name="Picture 2" descr="C:\Documents and Settings\d.wines\Desktop\Beach Images\Beach &amp; Water (A - B)\Beach Chair 05.wmf"/>
          <p:cNvPicPr/>
          <p:nvPr/>
        </p:nvPicPr>
        <p:blipFill>
          <a:blip r:embed="rId1"/>
          <a:stretch/>
        </p:blipFill>
        <p:spPr>
          <a:xfrm>
            <a:off x="7315200" y="380880"/>
            <a:ext cx="1157400" cy="1447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uess my Rule!</a:t>
            </a:r>
            <a:endParaRPr b="0" lang="en-US" sz="4400" spc="-1" strike="noStrike">
              <a:solidFill>
                <a:srgbClr val="2b5ca9"/>
              </a:solidFill>
              <a:latin typeface="Arial"/>
            </a:endParaRPr>
          </a:p>
        </p:txBody>
      </p:sp>
      <p:sp>
        <p:nvSpPr>
          <p:cNvPr id="8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thematics came out of this proble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this problem further our goal to discuss the big ideas of:</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ve think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s</a:t>
            </a:r>
            <a:endParaRPr b="0" lang="en-US" sz="28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7F4F-B008-4C99-BF44-3CAFBC33E8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2" descr="C:\Documents and Settings\d.wines\Desktop\Beach Images\Beach &amp; Water (A - B)\Beach Chair 05.wmf"/>
          <p:cNvPicPr/>
          <p:nvPr/>
        </p:nvPicPr>
        <p:blipFill>
          <a:blip r:embed="rId1"/>
          <a:stretch/>
        </p:blipFill>
        <p:spPr>
          <a:xfrm>
            <a:off x="7315200" y="380880"/>
            <a:ext cx="115740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ur 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93"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patterning and algebr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deepen our understanding of multiplicative thinking, generalizations and multiple representations </a:t>
            </a:r>
            <a:endParaRPr b="0" lang="en-US" sz="32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881F-4E6D-4B0A-ABBC-D383E3CAB5F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5" name="Picture 1" descr=""/>
          <p:cNvPicPr/>
          <p:nvPr/>
        </p:nvPicPr>
        <p:blipFill>
          <a:blip r:embed="rId1"/>
          <a:stretch/>
        </p:blipFill>
        <p:spPr>
          <a:xfrm>
            <a:off x="0" y="5356080"/>
            <a:ext cx="9144000" cy="1517760"/>
          </a:xfrm>
          <a:prstGeom prst="rect">
            <a:avLst/>
          </a:prstGeom>
          <a:ln w="0">
            <a:noFill/>
          </a:ln>
        </p:spPr>
      </p:pic>
      <p:sp>
        <p:nvSpPr>
          <p:cNvPr id="96"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73E3-5248-4077-A1CE-F79F76451A5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7" name="Picture 2" descr="C:\Documents and Settings\d.wines\Desktop\Beach Images\Beach &amp; Water (A - B)\Beach Chair 05.wmf"/>
          <p:cNvPicPr/>
          <p:nvPr/>
        </p:nvPicPr>
        <p:blipFill>
          <a:blip r:embed="rId2"/>
          <a:stretch/>
        </p:blipFill>
        <p:spPr>
          <a:xfrm>
            <a:off x="7620120" y="380880"/>
            <a:ext cx="115704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19T14:41:56Z</dcterms:modified>
  <cp:revision>15</cp:revision>
  <dc:subject/>
  <dc:title>&lt;Title&gt;</dc:title>
</cp:coreProperties>
</file>